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027-0456-4658-99CE-489CB28E1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204-AA97-49C9-97B2-C3FF5C9E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DA5-A725-4BB5-B718-CC832844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8E1C-11C1-4123-A942-F9CE09B5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C5BE-0112-442A-BBCA-E69BC986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B243-8B9D-4C3E-8E37-54AEE355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36F-EB5E-4C89-B624-55C00644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4917-CEE1-43C2-805F-3ED1CA77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40BB-857E-4E8E-B31B-46A86EE4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BAA3-C1AD-40BD-BDAB-1D146FCA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0D83-6964-48C9-91A9-3749749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BD7E-E3A7-4645-B5AB-05966C71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0387-A588-4093-B19A-0D0F8A6C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2C24-44BD-4996-AF43-798F1657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3E94-104D-4596-9BF8-B510181A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1054-6D0B-43F3-ADB7-54DC80C2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D12-43D4-4627-A1DE-EFD85948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1FB9-C210-4165-A3DC-7462075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0664-3294-4E86-84CB-89E71E38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1DA7-55FC-465F-96A8-E01C87FC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E78-C687-45E0-950B-5F5EFA3B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06E-1900-438F-AD5A-3BC364A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B2EF-A492-44A2-A0FE-F9F653C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B1DD-B705-4087-9B7B-510C465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59E2-C5F5-4243-90E5-56F2C25FDC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D16A-124F-4ACB-8352-026DC08CBE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516021F-8570-4B55-B3CE-4DA96E06ADA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1"/>
          <p:cNvSpPr/>
          <p:nvPr/>
        </p:nvSpPr>
        <p:spPr>
          <a:xfrm>
            <a:off x="571680" y="4419720"/>
            <a:ext cx="800100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nitive – Possessor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'of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ative – Indirect object 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'to' or 'for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538280"/>
          <a:ext cx="6922800" cy="2247840"/>
        </p:xfrm>
        <a:graphic>
          <a:graphicData uri="http://schemas.openxmlformats.org/drawingml/2006/table">
            <a:tbl>
              <a:tblPr/>
              <a:tblGrid>
                <a:gridCol w="1249200"/>
                <a:gridCol w="1568520"/>
                <a:gridCol w="1515960"/>
                <a:gridCol w="1424160"/>
                <a:gridCol w="1164960"/>
              </a:tblGrid>
              <a:tr h="484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th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- word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i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81"/>
          <p:cNvSpPr/>
          <p:nvPr/>
        </p:nvSpPr>
        <p:spPr>
          <a:xfrm>
            <a:off x="1214280" y="2643120"/>
            <a:ext cx="65674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rticle and noun must agree in gender, case and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E797D4F4-5824-428C-A9C3-996DD39365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2AECCCDB-9C06-4872-92A9-626885C4F4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4"/>
          <p:cNvSpPr/>
          <p:nvPr/>
        </p:nvSpPr>
        <p:spPr>
          <a:xfrm>
            <a:off x="357120" y="10717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3.4 Overview of Nouns and the 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81160" y="1617840"/>
          <a:ext cx="8648640" cy="3841560"/>
        </p:xfrm>
        <a:graphic>
          <a:graphicData uri="http://schemas.openxmlformats.org/drawingml/2006/table">
            <a:tbl>
              <a:tblPr/>
              <a:tblGrid>
                <a:gridCol w="1017360"/>
                <a:gridCol w="939960"/>
                <a:gridCol w="1017360"/>
                <a:gridCol w="1133640"/>
                <a:gridCol w="1133280"/>
                <a:gridCol w="1136880"/>
                <a:gridCol w="1135080"/>
                <a:gridCol w="113508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u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377"/>
          <p:cNvSpPr/>
          <p:nvPr/>
        </p:nvSpPr>
        <p:spPr>
          <a:xfrm>
            <a:off x="361800" y="5564160"/>
            <a:ext cx="79250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icle endings are the same as the noun except in masc. and fem. nom., and in the neuter (sing.) nom. and a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58840" y="1058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5 Variant Feminine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2A30AE4-C095-4AEF-B1BA-2294A60580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143000" y="1500120"/>
          <a:ext cx="7010280" cy="4235400"/>
        </p:xfrm>
        <a:graphic>
          <a:graphicData uri="http://schemas.openxmlformats.org/drawingml/2006/table">
            <a:tbl>
              <a:tblPr/>
              <a:tblGrid>
                <a:gridCol w="1103400"/>
                <a:gridCol w="903240"/>
                <a:gridCol w="1563480"/>
                <a:gridCol w="1459080"/>
                <a:gridCol w="198108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glor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οξ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Text Box 264"/>
          <p:cNvSpPr/>
          <p:nvPr/>
        </p:nvSpPr>
        <p:spPr>
          <a:xfrm>
            <a:off x="1214280" y="5811840"/>
            <a:ext cx="77724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variations between sing. and p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wel or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before end, or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χ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ζ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finite article pattern follows 3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357120" y="574056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785880" y="1214280"/>
          <a:ext cx="7510320" cy="2283120"/>
        </p:xfrm>
        <a:graphic>
          <a:graphicData uri="http://schemas.openxmlformats.org/drawingml/2006/table">
            <a:tbl>
              <a:tblPr/>
              <a:tblGrid>
                <a:gridCol w="1633320"/>
                <a:gridCol w="2122560"/>
                <a:gridCol w="1447920"/>
                <a:gridCol w="2306520"/>
              </a:tblGrid>
              <a:tr h="4924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tiv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wor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THE VOC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14C90679-E34C-4E7C-A963-D559560FCBF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4"/>
          <p:cNvSpPr/>
          <p:nvPr/>
        </p:nvSpPr>
        <p:spPr>
          <a:xfrm>
            <a:off x="357120" y="3506760"/>
            <a:ext cx="8286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τρε βλεπω δαιμονιον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Peter, I see a demon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Gentium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ρια φιλεις τον κυρι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ary! Do you love the lor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5"/>
          <p:cNvSpPr/>
          <p:nvPr/>
        </p:nvSpPr>
        <p:spPr>
          <a:xfrm>
            <a:off x="2428920" y="5214600"/>
            <a:ext cx="4343400" cy="1085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Kyrie Eleison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ε ἐλεησ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4E6ED947-824B-4AF5-9EE8-26EE24F2D73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Ἰησου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214200" y="3214800"/>
            <a:ext cx="85726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ἱ ὀχλοι ζητουσιν τον Ἰησου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crowds are seeking 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ουλος του Ἰησου λεγ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slave of Jesus is speak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9"/>
          <p:cNvSpPr/>
          <p:nvPr/>
        </p:nvSpPr>
        <p:spPr>
          <a:xfrm>
            <a:off x="1857240" y="5221440"/>
            <a:ext cx="4876920" cy="10616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ησ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definite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47880" y="1168560"/>
          <a:ext cx="5653080" cy="1996920"/>
        </p:xfrm>
        <a:graphic>
          <a:graphicData uri="http://schemas.openxmlformats.org/drawingml/2006/table">
            <a:tbl>
              <a:tblPr/>
              <a:tblGrid>
                <a:gridCol w="1208160"/>
                <a:gridCol w="1344600"/>
                <a:gridCol w="1709640"/>
                <a:gridCol w="1390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ocative is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ησου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ησ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96840" y="1214280"/>
          <a:ext cx="8939160" cy="4508640"/>
        </p:xfrm>
        <a:graphic>
          <a:graphicData uri="http://schemas.openxmlformats.org/drawingml/2006/table">
            <a:tbl>
              <a:tblPr/>
              <a:tblGrid>
                <a:gridCol w="798480"/>
                <a:gridCol w="825480"/>
                <a:gridCol w="1273320"/>
                <a:gridCol w="1233360"/>
                <a:gridCol w="1182600"/>
                <a:gridCol w="1208160"/>
                <a:gridCol w="1211400"/>
                <a:gridCol w="1206360"/>
              </a:tblGrid>
              <a:tr h="54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i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it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i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α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ὐτοις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em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063BE8A3-6E71-42CC-BBCD-D39461E7BB3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96250583-4FF7-4BB2-B176-3F54E76F00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1857240" y="233280"/>
            <a:ext cx="55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ὐτος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85840" y="1247760"/>
            <a:ext cx="79246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ings of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- similarity to the article in neu. nom. and acc. sing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nnecessary in n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ossessiv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αὐτο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uses definite article and 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714240" y="3382920"/>
            <a:ext cx="77155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λουμε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 - We are speak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κυρ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φιλ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ster lov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ὐ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Do you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5C671B0A-4AE5-4217-8B13-2BE6F704E62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42880" y="1406520"/>
            <a:ext cx="777240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του θεου λεγει τον λογο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αγγελ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-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us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of God speaks the word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8151BAEC-0E5E-41EA-BC8F-89482FCBA7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04880" y="1655640"/>
            <a:ext cx="7010280" cy="35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αγγελος λεγει τῳ δουλῳ</a:t>
            </a:r>
            <a:r>
              <a:rPr b="0" lang="en-GB" sz="30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442227F-03EB-4F9B-BC1D-40073B166E4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85840" y="1339920"/>
            <a:ext cx="11072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ὁ ἀγγελος λεγει τον λογον του θεου τῳ δουλῳ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ἀγγελ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the angel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wor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ου θε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God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ῳ δουλῳ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he slave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possess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ave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at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 indirect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The angel speaks the word of God to the slave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-282600" y="2602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ND DATIVE C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576360" y="2025720"/>
            <a:ext cx="749592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υ κυριου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e hear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κουομεν τον λογο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e hear th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ιστευουσιν τῳ θε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They believe in G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948CCDC-98E8-4F51-8A47-7D58565461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30040" y="874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SPECIAL USES OF THE GENITIV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D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F1281F10-D0D5-45B3-B826-1201746A53D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500040" y="1523880"/>
            <a:ext cx="8344080" cy="10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13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οὐρανος και ἡ γη παρελευσον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av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(the)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ar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pass aw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80880" y="3198960"/>
            <a:ext cx="838224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1 The idea of gende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mascul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feminine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ρχη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ἡμερ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ξ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un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neuter and decline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39"/>
          <p:cNvSpPr/>
          <p:nvPr/>
        </p:nvSpPr>
        <p:spPr>
          <a:xfrm>
            <a:off x="374760" y="120024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3.2 The Feminine and Neuter Decl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7160" y="1763640"/>
          <a:ext cx="7429680" cy="4449960"/>
        </p:xfrm>
        <a:graphic>
          <a:graphicData uri="http://schemas.openxmlformats.org/drawingml/2006/table">
            <a:tbl>
              <a:tblPr/>
              <a:tblGrid>
                <a:gridCol w="1521000"/>
                <a:gridCol w="1374840"/>
                <a:gridCol w="2328840"/>
                <a:gridCol w="2205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d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beginn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wor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η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υ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ῃ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α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ω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ρχα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 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ργοις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7A17BE60-EED1-4EFC-ABA6-769CBCAD421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38E648B9-88EC-464B-8473-3A046F1E7F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00040" y="1428840"/>
            <a:ext cx="731520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nom. and acc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γ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iden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always true in the neu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special rule for neuter plural nou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normally take a singular ver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'children keep the law' is 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α τεκν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ηρε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71680" y="4980960"/>
            <a:ext cx="8001000" cy="601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5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Neuter Plural Nouns take a singular verb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66"/>
          <p:cNvSpPr/>
          <p:nvPr/>
        </p:nvSpPr>
        <p:spPr>
          <a:xfrm>
            <a:off x="347760" y="1143000"/>
            <a:ext cx="701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3.3.3 The feminine and the neuter of the definite article: agreem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2300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FEMININE AND NEUTER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:Grammar </a:t>
            </a:r>
            <a:fld id="{C44030B2-D3F4-4C3F-BEE0-130C8B3E5C7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138320" y="2214720"/>
          <a:ext cx="6648480" cy="3992400"/>
        </p:xfrm>
        <a:graphic>
          <a:graphicData uri="http://schemas.openxmlformats.org/drawingml/2006/table">
            <a:tbl>
              <a:tblPr/>
              <a:tblGrid>
                <a:gridCol w="1066680"/>
                <a:gridCol w="933480"/>
                <a:gridCol w="1477800"/>
                <a:gridCol w="1443240"/>
                <a:gridCol w="1727280"/>
              </a:tblGrid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ῳ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23:27Z</dcterms:created>
  <dc:creator>Sarah</dc:creator>
  <dc:description/>
  <dc:language>en-US</dc:language>
  <cp:lastModifiedBy>Sarah</cp:lastModifiedBy>
  <dcterms:modified xsi:type="dcterms:W3CDTF">2009-03-04T00:00:10Z</dcterms:modified>
  <cp:revision>61</cp:revision>
  <dc:subject/>
  <dc:title>Slide 1</dc:title>
</cp:coreProperties>
</file>